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ct" ContentType="image/x-pict"/>
  <Override PartName="/ppt/media/image3.pct" ContentType="image/x-pict"/>
  <Override PartName="/ppt/media/image7.jpeg" ContentType="image/jpeg"/>
  <Override PartName="/ppt/media/image4.png" ContentType="image/png"/>
  <Override PartName="/ppt/media/image5.pct" ContentType="image/x-pict"/>
  <Override PartName="/ppt/media/image6.pct" ContentType="image/x-pi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37B04-66AD-4313-B92B-834EFE32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C82A8-32F7-4FF0-9BFE-FF3CF8EDA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6720C-9847-4B46-BC36-2D5F3450F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0F21B-B56E-4657-8971-2C3BB72D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32A-8AAA-4A3E-9B2D-46A78035A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A9EB-6574-4DEC-A744-2EA8DF3AF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6066E-CC96-4314-865F-590E2323C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8E8C-E305-441E-A496-DFDDBAB39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8BEC-94E9-48EE-92D4-2A9F1A3F1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A4D8-5590-4891-AF91-8C721154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97EAB-F3C0-4317-9E20-44ED1F3D8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215A-DCAB-48B4-88B7-5B8D628E1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6284-36D3-4A28-BCDD-034F1D4E50FD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pct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pct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685800" y="68580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ff"/>
                </a:solidFill>
                <a:latin typeface="Lucida Handwriting"/>
              </a:rPr>
              <a:t>GDR-Neutrino </a:t>
            </a:r>
            <a:r>
              <a:rPr b="0" lang="en-GB" sz="1400" spc="-1" strike="noStrike">
                <a:solidFill>
                  <a:srgbClr val="000000"/>
                </a:solidFill>
                <a:latin typeface="Lucida Handwriting"/>
              </a:rPr>
              <a:t>(10-11 mai 2006)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L. Mosca (CEA-Saclay)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The </a:t>
            </a:r>
            <a:r>
              <a:rPr b="1" lang="en-GB" sz="2400" spc="-1" strike="noStrike">
                <a:solidFill>
                  <a:srgbClr val="800000"/>
                </a:solidFill>
                <a:latin typeface="Lucida Handwriting"/>
              </a:rPr>
              <a:t>MEMPHYS </a:t>
            </a:r>
            <a:r>
              <a:rPr b="1" lang="en-GB" sz="2400" spc="-1" strike="noStrike">
                <a:solidFill>
                  <a:srgbClr val="0000ff"/>
                </a:solidFill>
                <a:latin typeface="Lucida Handwriting"/>
              </a:rPr>
              <a:t>project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e30000"/>
                </a:solidFill>
                <a:latin typeface="Lucida Handwriting"/>
              </a:rPr>
              <a:t>(Laboratory excavation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E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gaton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M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ass </a:t>
            </a:r>
            <a:r>
              <a:rPr b="1" lang="en-GB" sz="1800" spc="-1" strike="noStrike">
                <a:solidFill>
                  <a:srgbClr val="800000"/>
                </a:solidFill>
                <a:latin typeface="Lucida Handwriting"/>
              </a:rPr>
              <a:t>PHYS</a:t>
            </a:r>
            <a:r>
              <a:rPr b="1" lang="en-GB" sz="1800" spc="-1" strike="noStrike">
                <a:solidFill>
                  <a:srgbClr val="0000ff"/>
                </a:solidFill>
                <a:latin typeface="Lucida Handwriting"/>
              </a:rPr>
              <a:t>ic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a Large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ternational Underground Laboratory 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in the</a:t>
            </a:r>
            <a:r>
              <a:rPr b="1" lang="en-GB" sz="1600" spc="-1" strike="noStrike">
                <a:solidFill>
                  <a:srgbClr val="3e4bff"/>
                </a:solidFill>
                <a:latin typeface="Lucida Handwriting"/>
              </a:rPr>
              <a:t>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Fréjus 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tunnel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proton decay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upernovae explosio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solar and atmosphéric neutrino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-</a:t>
            </a:r>
            <a:r>
              <a:rPr b="0" lang="en-GB" sz="1600" spc="-1" strike="noStrike">
                <a:solidFill>
                  <a:srgbClr val="0000ff"/>
                </a:solidFill>
                <a:latin typeface="Lucida Handwriting"/>
                <a:ea typeface="Times New Roman"/>
              </a:rPr>
              <a:t>	</a:t>
            </a:r>
            <a:r>
              <a:rPr b="1" lang="en-GB" sz="1600" spc="-1" strike="noStrike">
                <a:solidFill>
                  <a:srgbClr val="0000ff"/>
                </a:solidFill>
                <a:latin typeface="Lucida Handwriting"/>
              </a:rPr>
              <a:t>neutrino super-beam and beta-beam from </a:t>
            </a:r>
            <a:r>
              <a:rPr b="1" lang="en-GB" sz="1600" spc="-1" strike="noStrike">
                <a:solidFill>
                  <a:srgbClr val="800000"/>
                </a:solidFill>
                <a:latin typeface="Lucida Handwriting"/>
              </a:rPr>
              <a:t>CERN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4E3C-B806-4FF2-A877-40096DF061FB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51320" y="838080"/>
            <a:ext cx="7692480" cy="40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Two examples of scenario for Water Cerenkov detecto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)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3 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5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                                                     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“UNO-like” scenario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b)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4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shaf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of 250 000 m</a:t>
            </a:r>
            <a:r>
              <a:rPr b="0" lang="en-GB" sz="20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ach, with 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fiducial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mass of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600 Kt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_____________________________________________________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&gt; In both scenarios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one additional shaft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would be necessary fo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a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Liquid Argon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detector of about </a:t>
            </a:r>
            <a:r>
              <a:rPr b="0" lang="en-GB" sz="2000" spc="-1" strike="noStrike">
                <a:solidFill>
                  <a:srgbClr val="e30000"/>
                </a:solidFill>
                <a:latin typeface="Arial"/>
              </a:rPr>
              <a:t>100 ktons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total mas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2F41-16CB-4EA4-9A45-31293DA802FE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8E722-39D5-43CA-B3B8-05C5DF90EB1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F674-11C4-41F1-84E2-87F7E62FAD1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  <a:ea typeface="Lucida Grande"/>
              </a:rPr>
              <a:t>→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-346680" y="299412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-41832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98680" y="299556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898680" y="4289400"/>
            <a:ext cx="2374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011640" y="2717640"/>
            <a:ext cx="2009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7680" y="2717640"/>
            <a:ext cx="381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73D55-14F4-47EC-897D-12589BF9F3CC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33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8169A-60EE-419B-B81F-7E184DA8DAC9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52280" y="-228600"/>
            <a:ext cx="8763120" cy="160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ff0421"/>
                </a:solidFill>
                <a:latin typeface="Times New Roman"/>
              </a:rPr>
              <a:t>La “saga” du tunnel routier de sécurité du Fréjus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e31d18"/>
                </a:solidFill>
                <a:latin typeface="Times New Roman"/>
              </a:rPr>
              <a:t>diamètre du tunnel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1" sz="2400" spc="-1" strike="noStrike">
                <a:solidFill>
                  <a:srgbClr val="ff5e26"/>
                </a:solidFill>
                <a:latin typeface="Times New Roman"/>
              </a:rPr>
              <a:t>date                     partie Française            partie Italienn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mars 2001                   0.00 (zero) m                      9.5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décembre 2001                                      4.8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juin 2004                          5.50 m   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2 juillet 2004 :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réation d’un groupe de travail à ce sujet par les deux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ministres de l’équipement/transport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Français (Gilles de Robien) e Italien (Pietro Lunardi)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Cette Commission devait rendre son rapport pour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                                  </a:t>
            </a:r>
            <a:r>
              <a:rPr b="0" sz="2000" spc="-1" strike="noStrike">
                <a:solidFill>
                  <a:srgbClr val="3e4bff"/>
                </a:solidFill>
                <a:latin typeface="Times New Roman"/>
              </a:rPr>
              <a:t>le 31 Octobre 2004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septembre 2004                5.50 m                          8.30 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mars 2006                                               8.20m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                                       </a:t>
            </a:r>
            <a:r>
              <a:rPr b="1" sz="2400" spc="-1" strike="noStrike">
                <a:solidFill>
                  <a:srgbClr val="802fff"/>
                </a:solidFill>
                <a:latin typeface="Times New Roman"/>
              </a:rPr>
              <a:t>(Comité de Sécurité Franco-Italien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21 avril 2006</a:t>
            </a: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8.00 mètres “utiles”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e4bff"/>
                </a:solidFill>
                <a:latin typeface="Times New Roman"/>
              </a:rPr>
              <a:t>                </a:t>
            </a:r>
            <a:r>
              <a:rPr b="1" sz="2400" spc="-1" strike="noStrike">
                <a:solidFill>
                  <a:srgbClr val="e30000"/>
                </a:solidFill>
                <a:latin typeface="Times New Roman"/>
              </a:rPr>
              <a:t>(Commission Inter-Gouvernementale Franco-Italienne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58E3B-D98A-4A25-AB89-21C1DA2852D0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DFB06-3A48-4430-B7C0-7B987FE826BC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5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7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8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3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8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2" name=""/>
          <p:cNvGrpSpPr/>
          <p:nvPr/>
        </p:nvGrpSpPr>
        <p:grpSpPr>
          <a:xfrm>
            <a:off x="3766320" y="1371600"/>
            <a:ext cx="2157840" cy="2825640"/>
            <a:chOff x="3766320" y="1371600"/>
            <a:chExt cx="2157840" cy="2825640"/>
          </a:xfrm>
        </p:grpSpPr>
        <p:sp>
          <p:nvSpPr>
            <p:cNvPr id="63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4" name=""/>
            <p:cNvGrpSpPr/>
            <p:nvPr/>
          </p:nvGrpSpPr>
          <p:grpSpPr>
            <a:xfrm>
              <a:off x="3766320" y="1371600"/>
              <a:ext cx="2157840" cy="2792520"/>
              <a:chOff x="3766320" y="1371600"/>
              <a:chExt cx="2157840" cy="2792520"/>
            </a:xfrm>
          </p:grpSpPr>
          <p:sp>
            <p:nvSpPr>
              <p:cNvPr id="65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3975840" y="160992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3766320" y="2946600"/>
                <a:ext cx="19483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189000" y="990720"/>
            <a:ext cx="4501080" cy="4732200"/>
            <a:chOff x="189000" y="990720"/>
            <a:chExt cx="4501080" cy="4732200"/>
          </a:xfrm>
        </p:grpSpPr>
        <p:pic>
          <p:nvPicPr>
            <p:cNvPr id="73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4" name=""/>
            <p:cNvSpPr/>
            <p:nvPr/>
          </p:nvSpPr>
          <p:spPr>
            <a:xfrm>
              <a:off x="189000" y="4581720"/>
              <a:ext cx="249696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211400" y="1825920"/>
              <a:ext cx="21312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981720" y="3203640"/>
              <a:ext cx="261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38080" y="526572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2010240" y="5253120"/>
              <a:ext cx="267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14800" y="4114800"/>
            <a:ext cx="4876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95552-DE5A-476C-8C9A-DD0E6B34749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8" name=""/>
          <p:cNvGraphicFramePr/>
          <p:nvPr/>
        </p:nvGraphicFramePr>
        <p:xfrm>
          <a:off x="1447920" y="609480"/>
          <a:ext cx="6400800" cy="5164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47920" y="609480"/>
                    <a:ext cx="6400800" cy="51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BF6DE-7288-4616-B8D7-C12BE4EA2BE8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« Convergence » measurements along the Fréjus road tunnel</a:t>
            </a:r>
            <a:r>
              <a:rPr b="0" lang="en-GB" sz="4400" spc="-1" strike="noStrike">
                <a:solidFill>
                  <a:srgbClr val="2c2bd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-914400" y="1066680"/>
            <a:ext cx="1069344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4007-0430-4213-949F-75C565782615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-360" y="1309680"/>
            <a:ext cx="899172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of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800 m.w.e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to excavat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209680" y="2971800"/>
            <a:ext cx="4419720" cy="306216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EECD8-9309-4070-AF23-E1C414F555F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075680" y="838080"/>
            <a:ext cx="6968520" cy="51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Main results of the Preliminary Stud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1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best sit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(rock quality) is found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in the middl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of the mountain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t a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depth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4800 mw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a really good chance !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2) of the two considered shapes : “tunnel” and “shaft”,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the “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haft (= well)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is 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strongly preferr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3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Cylindrical shafts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re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feasibl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up to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: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 diameter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e1121a"/>
                </a:solidFill>
                <a:latin typeface="Symbol"/>
                <a:ea typeface="Symbol"/>
              </a:rPr>
              <a:t>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= 65 m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and a full height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 h = 80 m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(≈ 250 000 m</a:t>
            </a:r>
            <a:r>
              <a:rPr b="0" lang="en-GB" sz="1800" spc="-1" strike="noStrike" baseline="30000">
                <a:solidFill>
                  <a:srgbClr val="3e4bff"/>
                </a:solidFill>
                <a:latin typeface="Arial"/>
              </a:rPr>
              <a:t>3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4)</a:t>
            </a:r>
            <a:r>
              <a:rPr b="0" lang="en-GB" sz="1800" spc="-1" strike="noStrike">
                <a:solidFill>
                  <a:srgbClr val="e1121a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with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gg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or “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intermediate shap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” the volum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of the shafts could be still increase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5) The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estimated cost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is </a:t>
            </a:r>
            <a:r>
              <a:rPr b="0" lang="en-GB" sz="1800" spc="-1" strike="noStrike">
                <a:solidFill>
                  <a:srgbClr val="e30000"/>
                </a:solidFill>
                <a:latin typeface="Arial"/>
              </a:rPr>
              <a:t>≈ 80 M€ X Nb of shaft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FD62-F383-419C-A273-7F42F7E2D9C2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374840" y="534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-380880" y="2819520"/>
          <a:ext cx="5105160" cy="3619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380880" y="2819520"/>
                    <a:ext cx="5105160" cy="361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9" name=""/>
          <p:cNvGraphicFramePr/>
          <p:nvPr/>
        </p:nvGraphicFramePr>
        <p:xfrm>
          <a:off x="4495680" y="228600"/>
          <a:ext cx="4413240" cy="587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28600"/>
                    <a:ext cx="4413240" cy="58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"/>
          <p:cNvSpPr/>
          <p:nvPr/>
        </p:nvSpPr>
        <p:spPr>
          <a:xfrm>
            <a:off x="685800" y="609480"/>
            <a:ext cx="3576600" cy="23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Exemple of “egg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shape” simulation, constrained by the rock parameter measurements made during the present tunnel and laboratory excavation.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The main feasibility criterium is that the significantly perturbated region around the cavity should not exceed a thickness of about 10 m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0FDA-BC6E-4E7E-8FF3-1E7B8A3F39A0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260360" y="0"/>
            <a:ext cx="5803920" cy="77184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1177920" y="-34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GDR-Neutrino à Orsay (LAL)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8996-B4BC-46D1-ACD8-AAD7F0007C66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11/05/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Luigi Mosca</cp:lastModifiedBy>
  <dcterms:modified xsi:type="dcterms:W3CDTF">2006-05-10T21:19:06Z</dcterms:modified>
  <cp:revision>83</cp:revision>
  <dc:subject/>
  <dc:title>Présentation PowerPoint</dc:title>
</cp:coreProperties>
</file>